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0FE4E1-2EF7-4D54-8B43-9A82412615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CC3-379A-4D89-BA98-4B3CA4CA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859-09F9-4824-B79E-9D357DE4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49D-5ED1-47BF-A3F4-61A37BB3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942-6644-437C-8273-94E9F063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893-BBA2-4572-9A00-4257868A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B86-9420-42F0-AEC8-C5A1B69F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CC4-731A-47E7-865F-FF96BE9F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03F-E07D-4298-AFAE-D20DAAA8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F4B-5F6B-4EE4-86CA-46DB6501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5D0-EF30-4D72-BF67-6FBA3BD2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AF7C-7D22-4614-9FB6-4E8AEBA3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D876-6443-463B-A6D1-0582794B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A3AB18-2B3A-4828-86D6-9FBF40B27E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06640" y="1598760"/>
            <a:ext cx="68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School in Palestine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39760" y="556092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The journey starts here in Hebr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680" y="457200"/>
            <a:ext cx="86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6000" spc="-1" strike="noStrike">
                <a:solidFill>
                  <a:srgbClr val="ac181c"/>
                </a:solidFill>
                <a:latin typeface="Arial"/>
              </a:rPr>
              <a:t>المدرسة في فلسطين</a:t>
            </a:r>
            <a:r>
              <a:rPr b="1" lang="en-GB" sz="6000" spc="-1" strike="noStrike">
                <a:solidFill>
                  <a:srgbClr val="ac181c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0200" y="4952880"/>
            <a:ext cx="56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43a398"/>
                </a:solidFill>
                <a:latin typeface="Arial"/>
              </a:rPr>
              <a:t>تبدأ الرحلة هنا في المعب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350880" y="6459480"/>
            <a:ext cx="22168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y got shot a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06480" y="0"/>
            <a:ext cx="1520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فيضربوا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23000" y="6461280"/>
            <a:ext cx="24440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nd some ar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3680" y="0"/>
            <a:ext cx="316944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قبض على بعضهم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48276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41800" y="6459480"/>
            <a:ext cx="63712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yet in their eyes you see determination and dig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41200" y="0"/>
            <a:ext cx="53668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بقى التحدي والكبرياء في عيون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674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If you have a heart at all you will pass this on to all your friends and MAYBE someone will realize w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alestinians go through everyday!!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7280" y="639936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© LIVE_2_LOVE 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0960"/>
            <a:ext cx="693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43a398"/>
                </a:solidFill>
                <a:latin typeface="Arial"/>
              </a:rPr>
              <a:t>لو تحركت أي من مشاعرك أرسلها لكل أصدقاء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43a398"/>
                </a:solidFill>
                <a:latin typeface="Arial"/>
              </a:rPr>
              <a:t>فقد يدرك أحدهم المعاناة اليومية للفلسطيني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486480"/>
            <a:ext cx="91440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the children starting their day going to school to be faced with a checkpoi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-183960"/>
            <a:ext cx="678168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عند الذهاب إلى المدرسة يبدأ الأطفال يومهم بمواجهة نقطة التفتيش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800" y="6459480"/>
            <a:ext cx="90975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soldiers prevent them from passing and give them orders to go h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4640" y="-1440"/>
            <a:ext cx="7601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منعهم الجنود من المرور ويأمروهم بالعودة للمنز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9560" y="6454800"/>
            <a:ext cx="818172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children try to challenge the soldiers and pass the check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3680" y="-1440"/>
            <a:ext cx="75751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حاول الأطفال تحدي الجنود وتجاوز نقطة التفتي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60440" y="-1440"/>
            <a:ext cx="6299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حتى الأصغر سنا يحاولون ولكن دون جدو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59440" y="6459480"/>
            <a:ext cx="4307760" cy="398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en younger ones try but in v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167400" y="-1440"/>
            <a:ext cx="95364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نتهي بهم الأمر بتلقي دروسهم في الشارع عند نقطة التفتي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0840" y="6459480"/>
            <a:ext cx="7928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y end up having their classes in the street by the check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5568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75440" y="-1440"/>
            <a:ext cx="36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الها من شجاعة مدهش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2960" y="6459480"/>
            <a:ext cx="2908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what an amazing spi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5568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4440" y="6459480"/>
            <a:ext cx="38275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boys try a little bit hard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48240" y="-1440"/>
            <a:ext cx="54158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حاول الصبية على نحو أشد نوعا ما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hard Arendt</cp:lastModifiedBy>
  <dcterms:modified xsi:type="dcterms:W3CDTF">2007-12-05T23:40:10Z</dcterms:modified>
  <cp:revision>1</cp:revision>
  <dc:subject/>
  <dc:title>PowerPoint Presentation</dc:title>
</cp:coreProperties>
</file>