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121054-5A81-407A-A0F0-11213507DA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5CE2-7708-49E5-8386-771C1596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11F2-4433-40A3-94F1-D8319CDA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2153-0B87-4EE6-A894-226C7C0F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ED77-8903-4818-9AE6-02054F5D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CBF6-8333-4C5D-BB5D-94AE7AA4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00DA-2165-466E-8A17-02A60D89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E665-CA63-4BEB-83C2-98450CF3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CC5B-8E7E-4607-8AE2-29481738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7392-B7A8-4E20-AEB5-AAF8AE46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706-57D5-483E-8DE1-180F4088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CF2A-ABBD-4E35-B6FB-AD24F3AE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131-3CD5-4D4C-84F9-1FA83D00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9EDF33-B293-45C9-8A10-07C8CCE2DC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06640" y="1598760"/>
            <a:ext cx="68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School in Palestine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39760" y="5560920"/>
            <a:ext cx="67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The journey starts here in Hebr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680" y="457200"/>
            <a:ext cx="860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6000" spc="-1" strike="noStrike">
                <a:solidFill>
                  <a:srgbClr val="ac181c"/>
                </a:solidFill>
                <a:latin typeface="Arial"/>
              </a:rPr>
              <a:t>المدرسة في فلسطين</a:t>
            </a:r>
            <a:r>
              <a:rPr b="1" lang="en-GB" sz="6000" spc="-1" strike="noStrike">
                <a:solidFill>
                  <a:srgbClr val="ac181c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90200" y="4952880"/>
            <a:ext cx="56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3600" spc="-1" strike="noStrike">
                <a:solidFill>
                  <a:srgbClr val="43a398"/>
                </a:solidFill>
                <a:latin typeface="Arial"/>
              </a:rPr>
              <a:t>تبدأ الرحلة هنا في المعب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350880" y="6459480"/>
            <a:ext cx="22168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y got shot a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06480" y="0"/>
            <a:ext cx="15202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فيضربوا</a:t>
            </a:r>
            <a:r>
              <a:rPr b="1" lang="en-GB" sz="2400" spc="-1" strike="noStrike">
                <a:solidFill>
                  <a:srgbClr val="43a398"/>
                </a:solidFill>
                <a:latin typeface="Arial"/>
              </a:rPr>
              <a:t>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123000" y="6461280"/>
            <a:ext cx="24440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nd some arr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3680" y="0"/>
            <a:ext cx="316944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ويقبض على بعضهم</a:t>
            </a:r>
            <a:r>
              <a:rPr b="1" lang="en-GB" sz="2400" spc="-1" strike="noStrike">
                <a:solidFill>
                  <a:srgbClr val="43a39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48276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41800" y="6459480"/>
            <a:ext cx="63712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yet in their eyes you see determination and dig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41200" y="0"/>
            <a:ext cx="53668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ويبقى التحدي والكبرياء في عيونه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674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If you have a heart at all you will pass this on to all your friends and MAYBE someone will realize w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Palestinians go through everyday!!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97280" y="6399360"/>
            <a:ext cx="28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© LIVE_2_LOVE 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0960"/>
            <a:ext cx="693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43a398"/>
                </a:solidFill>
                <a:latin typeface="Arial"/>
              </a:rPr>
              <a:t>لو تحركت أي من مشاعرك أرسلها لكل أصدقاء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43a398"/>
                </a:solidFill>
                <a:latin typeface="Arial"/>
              </a:rPr>
              <a:t>فقد يدرك أحدهم المعاناة اليومية للفلسطيني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486480"/>
            <a:ext cx="914400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the children starting their day going to school to be faced with a checkpoi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-183960"/>
            <a:ext cx="678168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عند الذهاب إلى المدرسة يبدأ الأطفال يومهم بمواجهة نقطة التفتيش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800" y="6459480"/>
            <a:ext cx="90975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 soldiers prevent them from passing and give them orders to go h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4640" y="-1440"/>
            <a:ext cx="7601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منعهم الجنود من المرور ويأمروهم بالعودة للمنز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29560" y="6454800"/>
            <a:ext cx="818172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 children try to challenge the soldiers and pass the check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3680" y="-1440"/>
            <a:ext cx="75751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حاول الأطفال تحدي الجنود وتجاوز نقطة التفتي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60440" y="-1440"/>
            <a:ext cx="6299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حتى الأصغر سنا يحاولون ولكن دون جدو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59440" y="6459480"/>
            <a:ext cx="4307760" cy="398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ven younger ones try but in v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167400" y="-1440"/>
            <a:ext cx="95364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وينتهي بهم الأمر بتلقي دروسهم في الشارع عند نقطة التفتي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0840" y="6459480"/>
            <a:ext cx="7928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y end up having their classes in the street by the check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5568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75440" y="-1440"/>
            <a:ext cx="36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الها من شجاعة مدهش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92960" y="6459480"/>
            <a:ext cx="2908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what an amazing spir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35568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84440" y="6459480"/>
            <a:ext cx="382752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 boys try a little bit hard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48240" y="-1440"/>
            <a:ext cx="54158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حاول الصبية على نحو أشد نوعا ما</a:t>
            </a:r>
            <a:r>
              <a:rPr b="1" lang="en-GB" sz="2400" spc="-1" strike="noStrike">
                <a:solidFill>
                  <a:srgbClr val="43a398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hard Arendt</cp:lastModifiedBy>
  <dcterms:modified xsi:type="dcterms:W3CDTF">2007-12-05T23:40:10Z</dcterms:modified>
  <cp:revision>1</cp:revision>
  <dc:subject/>
  <dc:title>PowerPoint Presentation</dc:title>
</cp:coreProperties>
</file>