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CDDA1D-1DD5-4D0B-9521-A922EA7D78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DAD-A5A6-4876-89F6-D3485022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AA1-2074-4988-8CAC-0853A600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021-D7C7-427E-AE4F-DB89700B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5D6-4995-48C2-8097-F6BAC4DB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D90-165C-4DAC-9F93-85EC405F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2C64-8B83-42FA-A11A-8A0CDFD5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5D0-9309-44A1-BDA3-E90EB701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B4A-7C4D-4AE1-A86A-75B4750A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274-6D18-40E1-9F3C-776032CA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FEE-DB53-4476-9E36-1043B80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FF4-C4E4-4065-B809-D10B1443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80F-1DA7-430F-89CC-E10A1B24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C1B0DC-25F6-482F-A4E0-73CBF4DD7C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06640" y="1598760"/>
            <a:ext cx="68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School in Palestine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9760" y="556092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The journey starts here in Heb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680" y="457200"/>
            <a:ext cx="86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6000" spc="-1" strike="noStrike">
                <a:solidFill>
                  <a:srgbClr val="ac181c"/>
                </a:solidFill>
                <a:latin typeface="Arial"/>
              </a:rPr>
              <a:t>المدرسة في فلسطين</a:t>
            </a:r>
            <a:r>
              <a:rPr b="1" lang="en-GB" sz="6000" spc="-1" strike="noStrike">
                <a:solidFill>
                  <a:srgbClr val="ac181c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0200" y="495288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43a398"/>
                </a:solidFill>
                <a:latin typeface="Arial"/>
              </a:rPr>
              <a:t>تبدأ الرحلة هنا في المع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50880" y="6459480"/>
            <a:ext cx="22168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got shot a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06480" y="0"/>
            <a:ext cx="1520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فيضربو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23000" y="6461280"/>
            <a:ext cx="24440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nd some ar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3680" y="0"/>
            <a:ext cx="31694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قبض على بعضهم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48276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41800" y="6459480"/>
            <a:ext cx="63712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yet in their eyes you see determination and dig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41200" y="0"/>
            <a:ext cx="5366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بقى التحدي والكبرياء في عيون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74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If you have a heart at all you will pass this on to all your friends and MAYBE someone will realize 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alestinians go through everyday!!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7280" y="639936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© LIVE_2_LOVE 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096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لو تحركت أي من مشاعرك أرسلها لكل أصدقاء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فقد يدرك أحدهم المعاناة اليومية للفلسطيني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486480"/>
            <a:ext cx="91440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the children starting their day going to school to be faced with a checkpoi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-183960"/>
            <a:ext cx="678168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عند الذهاب إلى المدرسة يبدأ الأطفال يومهم بمواجهة نقطة التفتيش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00" y="6459480"/>
            <a:ext cx="90975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soldiers prevent them from passing and give them orders to go h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4640" y="-1440"/>
            <a:ext cx="7601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منعهم الجنود من المرور ويأمروهم بالعودة للمنز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9560" y="6454800"/>
            <a:ext cx="818172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children try to challenge the soldiers and pass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3680" y="-1440"/>
            <a:ext cx="75751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أطفال تحدي الجنود وتجاوز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60440" y="-1440"/>
            <a:ext cx="6299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حتى الأصغر سنا يحاولون ولكن دون جدو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9440" y="6459480"/>
            <a:ext cx="4307760" cy="398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en younger ones try but in v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67400" y="-1440"/>
            <a:ext cx="9536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نتهي بهم الأمر بتلقي دروسهم في الشارع عند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0840" y="6459480"/>
            <a:ext cx="7928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end up having their classes in the street by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75440" y="-1440"/>
            <a:ext cx="36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الها من شجاعة مدهش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2960" y="6459480"/>
            <a:ext cx="2908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what an amazing spi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4440" y="6459480"/>
            <a:ext cx="38275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boys try a little bit hard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48240" y="-1440"/>
            <a:ext cx="54158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صبية على نحو أشد نوعا م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hard Arendt</cp:lastModifiedBy>
  <dcterms:modified xsi:type="dcterms:W3CDTF">2007-12-05T23:40:10Z</dcterms:modified>
  <cp:revision>1</cp:revision>
  <dc:subject/>
  <dc:title>PowerPoint Presentation</dc:title>
</cp:coreProperties>
</file>