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5495D65-17F3-4B78-ABA1-37BFB1E81E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0842-7A22-4973-AD17-AE7DB1FD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629-CFFD-4A70-AC8E-771162E0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8B8-0B4F-4364-8E77-AE9A461C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42DB-9514-4A90-BEDB-4EF3D306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2D9-C1D1-4622-859D-DFDCF1E0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ABDF-507D-4943-86FD-14686A6C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3CFD-D09C-47D3-8D80-DFAF3C03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3C89-42FD-4040-A77E-28266C11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D93-95EF-4966-84EC-699D2F91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352E-E978-4CC6-A176-5D2466E8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19A-A70B-4CE0-8DD2-DB00FB54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E72-7E89-4641-88E9-02A9580B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0973B66-E75C-4EEE-96CD-47E9A6722F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159876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School in Palestin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9760" y="556092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The journey starts here in Heb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680" y="457200"/>
            <a:ext cx="86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ac181c"/>
                </a:solidFill>
                <a:latin typeface="Arial"/>
              </a:rPr>
              <a:t>المدرسة في فلسطين</a:t>
            </a:r>
            <a:r>
              <a:rPr b="1" lang="en-GB" sz="6000" spc="-1" strike="noStrike">
                <a:solidFill>
                  <a:srgbClr val="ac181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0200" y="49528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43a398"/>
                </a:solidFill>
                <a:latin typeface="Arial"/>
              </a:rPr>
              <a:t>تبدأ الرحلة هنا في المع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0880" y="6459480"/>
            <a:ext cx="2216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got shot 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6480" y="0"/>
            <a:ext cx="1520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فيضربو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3000" y="6461280"/>
            <a:ext cx="2444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nd some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3680" y="0"/>
            <a:ext cx="31694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قبض على بعضهم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827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1800" y="6459480"/>
            <a:ext cx="6371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yet in their eyes you see determination and dig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1200" y="0"/>
            <a:ext cx="5366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بقى التحدي والكبرياء في عيون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4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f you have a heart at all you will pass this on to all your friends and MAYBE someone will realize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alestinians go through everyday!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7280" y="639936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© LIVE_2_LOVE 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96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لو تحركت أي من مشاعرك أرسلها لكل أصدقاء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فقد يدرك أحدهم المعاناة اليومية للفلسطين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86480"/>
            <a:ext cx="91440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he children starting their day going to school to be faced with a check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-183960"/>
            <a:ext cx="67816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عند الذهاب إلى المدرسة يبدأ الأطفال يومهم بمواجهة نقطة التفتيش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" y="6459480"/>
            <a:ext cx="90975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soldiers prevent them from passing and give them orders to go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4640" y="-1440"/>
            <a:ext cx="7601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منعهم الجنود من المرور ويأمروهم بالعودة للمن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560" y="6454800"/>
            <a:ext cx="81817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children try to challenge the soldiers and pass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-1440"/>
            <a:ext cx="7575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أطفال تحدي الجنود وتجاوز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0440" y="-1440"/>
            <a:ext cx="629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حتى الأصغر سنا يحاولون ولكن دون جد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9440" y="6459480"/>
            <a:ext cx="430776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en younger ones try but in v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67400" y="-1440"/>
            <a:ext cx="9536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نتهي بهم الأمر بتلقي دروسهم في الشارع عند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0840" y="6459480"/>
            <a:ext cx="7928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end up having their classes in the street by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75440" y="-144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الها من شجاعة مده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2960" y="6459480"/>
            <a:ext cx="2908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what an amazing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4440" y="6459480"/>
            <a:ext cx="3827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boys try a little bit har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8240" y="-1440"/>
            <a:ext cx="54158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صبية على نحو أشد نوعا م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hard Arendt</cp:lastModifiedBy>
  <dcterms:modified xsi:type="dcterms:W3CDTF">2007-12-05T23:40:10Z</dcterms:modified>
  <cp:revision>1</cp:revision>
  <dc:subject/>
  <dc:title>PowerPoint Presentation</dc:title>
</cp:coreProperties>
</file>